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10.jpeg" ContentType="image/jpeg"/>
  <Override PartName="/ppt/media/image30.png" ContentType="image/pn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9.jpeg" ContentType="image/jpeg"/>
  <Override PartName="/ppt/media/image31.png" ContentType="image/png"/>
  <Override PartName="/ppt/media/image47.jpeg" ContentType="image/jpeg"/>
  <Override PartName="/ppt/media/image52.jpeg" ContentType="image/jpeg"/>
  <Override PartName="/ppt/media/image53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5581-2AD6-45A0-A7D1-9E9469F249C9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CD1A-CAD7-4AF9-B11B-2280339980D1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F0C6-B2AA-46A0-81E2-5F2913356B5F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6BD8-3E93-4938-B8C3-ADA418FE268D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E4AB-C637-4319-8AA3-C3A1991F3467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A4C3-380E-49BD-B905-87C4194863A0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7008-CCD1-4348-B99D-784CF0E09423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9C1B-ADA5-4AB7-A42A-BA380A18AEA0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EC8E-B98B-4DE1-84BC-3F1319932450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2583-A42C-4AF5-A4D2-A3E362C86F16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9546-870E-40ED-AA36-9012912E18CF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0A68-65AF-410F-B45F-AEDE8D1AB3A2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C20-9B28-458C-B85E-0445521B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F08-0D8B-48F5-82BA-B95EBE84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735-2904-4BF4-B70B-EAAF6AC9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4C0-343A-415E-8995-C9097731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218-0B2E-40DF-BEC1-8B88CCB2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D5F-F0ED-4D33-A94E-FDBAEBF7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761-1685-49A9-ADE6-B885BB97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EE8-5207-4C64-B3A5-1A33B490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60B-9F10-4C99-B166-EC3B2045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B8B-EE62-4C31-9BFE-C321CD24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19A-C5A9-4D4D-BC34-4192E6F1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2B4-2013-40E5-A1A9-92086E9F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DEFF-7A1B-47A4-B0DB-0E3DB2CC0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ANd9GcSHoDBVpVQR_x7CuoYCMXsDNtraRsllSg6KRp1CPcdWo_Tdi4o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y: Wyatt Grann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743200" y="914400"/>
            <a:ext cx="40291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 u="sng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uFillTx/>
                <a:latin typeface="Impact"/>
              </a:rPr>
              <a:t> </a:t>
            </a:r>
            <a:endParaRPr b="0" lang="en-US" sz="2400" spc="1" strike="noStrike" u="sng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uFillTx/>
              <a:latin typeface="Impact"/>
              <a:ea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361960" y="257040"/>
            <a:ext cx="3352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&amp; Land Bi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ttp://focusingonwildlife.com/news/wp-content/uploads/2012/06/Beautiful-wetlands-at-Long-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tl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-360"/>
            <a:ext cx="2819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tlands are found in almost all over th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5562720" y="15228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tlands collect and hold flood water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tlands provide habitats for plants and animal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Wetlands absorb wind and tidal forces</a:t>
            </a: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0" y="2666880"/>
            <a:ext cx="3657600" cy="1603080"/>
            <a:chOff x="0" y="2666880"/>
            <a:chExt cx="3657600" cy="1603080"/>
          </a:xfrm>
        </p:grpSpPr>
        <p:pic>
          <p:nvPicPr>
            <p:cNvPr id="201" name="Picture 7" descr="https://encrypted-tbn2.gstatic.com/images?q=tbn:ANd9GcS12KcBhW0BbxDoE7wUMJoCp_GhZl37Wu0o9r3ut9DKxmoPOCAwCg"/>
            <p:cNvPicPr/>
            <p:nvPr/>
          </p:nvPicPr>
          <p:blipFill>
            <a:blip r:embed="rId2"/>
            <a:stretch/>
          </p:blipFill>
          <p:spPr>
            <a:xfrm>
              <a:off x="380880" y="2666880"/>
              <a:ext cx="2095560" cy="152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6"/>
            <p:cNvSpPr/>
            <p:nvPr/>
          </p:nvSpPr>
          <p:spPr>
            <a:xfrm>
              <a:off x="0" y="38102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Marsh wren Bir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3" name="Group 10"/>
          <p:cNvGrpSpPr/>
          <p:nvPr/>
        </p:nvGrpSpPr>
        <p:grpSpPr>
          <a:xfrm>
            <a:off x="6172200" y="2971800"/>
            <a:ext cx="2971800" cy="1374480"/>
            <a:chOff x="6172200" y="2971800"/>
            <a:chExt cx="2971800" cy="1374480"/>
          </a:xfrm>
        </p:grpSpPr>
        <p:pic>
          <p:nvPicPr>
            <p:cNvPr id="204" name="Picture 9" descr="https://encrypted-tbn1.gstatic.com/images?q=tbn:ANd9GcRLA2nW0_LHQZWjmbLW1A4OjFl9xOYLpdI2_F5ZLMDrmzyoDZy5aA"/>
            <p:cNvPicPr/>
            <p:nvPr/>
          </p:nvPicPr>
          <p:blipFill>
            <a:blip r:embed="rId3"/>
            <a:stretch/>
          </p:blipFill>
          <p:spPr>
            <a:xfrm>
              <a:off x="6248160" y="2971800"/>
              <a:ext cx="2286000" cy="13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Box 9"/>
            <p:cNvSpPr/>
            <p:nvPr/>
          </p:nvSpPr>
          <p:spPr>
            <a:xfrm>
              <a:off x="6172200" y="38865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Mink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6" name="Group 13"/>
          <p:cNvGrpSpPr/>
          <p:nvPr/>
        </p:nvGrpSpPr>
        <p:grpSpPr>
          <a:xfrm>
            <a:off x="2438280" y="3733920"/>
            <a:ext cx="2819520" cy="2085840"/>
            <a:chOff x="2438280" y="3733920"/>
            <a:chExt cx="2819520" cy="2085840"/>
          </a:xfrm>
        </p:grpSpPr>
        <p:pic>
          <p:nvPicPr>
            <p:cNvPr id="207" name="Picture 11" descr="https://encrypted-tbn2.gstatic.com/images?q=tbn:ANd9GcQXIaNSLkTiTNmuGflElv78w6cNvNSjl7O3ONNdU7zWPfVmm23U"/>
            <p:cNvPicPr/>
            <p:nvPr/>
          </p:nvPicPr>
          <p:blipFill>
            <a:blip r:embed="rId4"/>
            <a:stretch/>
          </p:blipFill>
          <p:spPr>
            <a:xfrm>
              <a:off x="2666880" y="3733920"/>
              <a:ext cx="219096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12"/>
            <p:cNvSpPr/>
            <p:nvPr/>
          </p:nvSpPr>
          <p:spPr>
            <a:xfrm>
              <a:off x="2438280" y="53341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6e6e6"/>
                  </a:solidFill>
                  <a:uFillTx/>
                  <a:latin typeface="Arial"/>
                </a:rPr>
                <a:t>Muskrat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9" name="Group 16"/>
          <p:cNvGrpSpPr/>
          <p:nvPr/>
        </p:nvGrpSpPr>
        <p:grpSpPr>
          <a:xfrm>
            <a:off x="5791320" y="4495680"/>
            <a:ext cx="2666880" cy="1743120"/>
            <a:chOff x="5791320" y="4495680"/>
            <a:chExt cx="2666880" cy="1743120"/>
          </a:xfrm>
        </p:grpSpPr>
        <p:pic>
          <p:nvPicPr>
            <p:cNvPr id="210" name="Picture 13" descr="https://encrypted-tbn1.gstatic.com/images?q=tbn:ANd9GcQ6XvAEKkLoZPVKQ6VIrcYQgnliFxau7dhAt9jMm8Td21prXXaw"/>
            <p:cNvPicPr/>
            <p:nvPr/>
          </p:nvPicPr>
          <p:blipFill>
            <a:blip r:embed="rId5"/>
            <a:stretch/>
          </p:blipFill>
          <p:spPr>
            <a:xfrm>
              <a:off x="5791320" y="4495680"/>
              <a:ext cx="262908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Box 15"/>
            <p:cNvSpPr/>
            <p:nvPr/>
          </p:nvSpPr>
          <p:spPr>
            <a:xfrm>
              <a:off x="5943600" y="57150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Cattail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s://encrypted-tbn3.gstatic.com/images?q=tbn:ANd9GcR9A2wwd77rCWabL5WrDBp2iKYlYPAtGnPIwwcJK_vDNrdjTSfYq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-3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arral biome is found in a little bit of the continents, the west coast of the United States and other conti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6477120" y="0"/>
            <a:ext cx="266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haparral create spirit  and inspire the natural environmen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haparrals increase the conservation protection of shrubland ecosystem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hey help clarify fire and land managemen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6" name="Group 7"/>
          <p:cNvGrpSpPr/>
          <p:nvPr/>
        </p:nvGrpSpPr>
        <p:grpSpPr>
          <a:xfrm>
            <a:off x="2286000" y="1143000"/>
            <a:ext cx="2133720" cy="2257920"/>
            <a:chOff x="2286000" y="1143000"/>
            <a:chExt cx="2133720" cy="2257920"/>
          </a:xfrm>
        </p:grpSpPr>
        <p:pic>
          <p:nvPicPr>
            <p:cNvPr id="217" name="Picture 4" descr="https://encrypted-tbn1.gstatic.com/images?q=tbn:ANd9GcTnRn8ZABBI9HqGwEH_Pd2dq6MSTGe-7PTtHj-FhvoFs8Rh_Ppkmg"/>
            <p:cNvPicPr/>
            <p:nvPr/>
          </p:nvPicPr>
          <p:blipFill>
            <a:blip r:embed="rId2"/>
            <a:stretch/>
          </p:blipFill>
          <p:spPr>
            <a:xfrm>
              <a:off x="2286000" y="1143000"/>
              <a:ext cx="21337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6"/>
            <p:cNvSpPr/>
            <p:nvPr/>
          </p:nvSpPr>
          <p:spPr>
            <a:xfrm>
              <a:off x="2590560" y="2209680"/>
              <a:ext cx="175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Black-tailed jackrabbi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9" name="Group 10"/>
          <p:cNvGrpSpPr/>
          <p:nvPr/>
        </p:nvGrpSpPr>
        <p:grpSpPr>
          <a:xfrm>
            <a:off x="4114800" y="1295280"/>
            <a:ext cx="2438280" cy="1815840"/>
            <a:chOff x="4114800" y="1295280"/>
            <a:chExt cx="2438280" cy="1815840"/>
          </a:xfrm>
        </p:grpSpPr>
        <p:pic>
          <p:nvPicPr>
            <p:cNvPr id="220" name="Picture 6" descr="http://www.dl-digital.com/images/West-Texas/DSC_3231-javelina-close.jpg"/>
            <p:cNvPicPr/>
            <p:nvPr/>
          </p:nvPicPr>
          <p:blipFill>
            <a:blip r:embed="rId3"/>
            <a:stretch/>
          </p:blipFill>
          <p:spPr>
            <a:xfrm>
              <a:off x="4114800" y="1295280"/>
              <a:ext cx="2406240" cy="15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9"/>
            <p:cNvSpPr/>
            <p:nvPr/>
          </p:nvSpPr>
          <p:spPr>
            <a:xfrm>
              <a:off x="4267080" y="228564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Javalina Mammal 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2" name="Group 13"/>
          <p:cNvGrpSpPr/>
          <p:nvPr/>
        </p:nvGrpSpPr>
        <p:grpSpPr>
          <a:xfrm>
            <a:off x="2286000" y="3581280"/>
            <a:ext cx="3048120" cy="2044800"/>
            <a:chOff x="2286000" y="3581280"/>
            <a:chExt cx="3048120" cy="2044800"/>
          </a:xfrm>
        </p:grpSpPr>
        <p:pic>
          <p:nvPicPr>
            <p:cNvPr id="223" name="Picture 8" descr="https://encrypted-tbn0.gstatic.com/images?q=tbn:ANd9GcSuzXp8z1Hdl3bdVYsIaSQt5BO4uZz_oSzvbsN4ULypZg3mGO0p"/>
            <p:cNvPicPr/>
            <p:nvPr/>
          </p:nvPicPr>
          <p:blipFill>
            <a:blip r:embed="rId4"/>
            <a:stretch/>
          </p:blipFill>
          <p:spPr>
            <a:xfrm>
              <a:off x="2438280" y="3581280"/>
              <a:ext cx="26197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Box 12"/>
            <p:cNvSpPr/>
            <p:nvPr/>
          </p:nvSpPr>
          <p:spPr>
            <a:xfrm>
              <a:off x="2286000" y="4800600"/>
              <a:ext cx="304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Rattlesnake Reptile    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5" name="Group 16"/>
          <p:cNvGrpSpPr/>
          <p:nvPr/>
        </p:nvGrpSpPr>
        <p:grpSpPr>
          <a:xfrm>
            <a:off x="5943600" y="4800600"/>
            <a:ext cx="2743200" cy="1679400"/>
            <a:chOff x="5943600" y="4800600"/>
            <a:chExt cx="2743200" cy="1679400"/>
          </a:xfrm>
        </p:grpSpPr>
        <p:pic>
          <p:nvPicPr>
            <p:cNvPr id="226" name="Picture 10" descr="https://encrypted-tbn2.gstatic.com/images?q=tbn:ANd9GcSYQu4PJCbX46eLoPS_3gsbdoNV8x_8AOYHKGLnyafcIHRLh89k"/>
            <p:cNvPicPr/>
            <p:nvPr/>
          </p:nvPicPr>
          <p:blipFill>
            <a:blip r:embed="rId5"/>
            <a:stretch/>
          </p:blipFill>
          <p:spPr>
            <a:xfrm>
              <a:off x="6019560" y="4800600"/>
              <a:ext cx="2448000" cy="16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Box 15"/>
            <p:cNvSpPr/>
            <p:nvPr/>
          </p:nvSpPr>
          <p:spPr>
            <a:xfrm>
              <a:off x="5943600" y="60202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Armadillo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Nd9GcSoBVWRoQobhCLlUAlk3TnaT5ySZl9HOfd6A0W9W2SQdY8MoxV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Tropical Rain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562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A warm climate all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Lots of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Big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 flipH="1" flipV="1">
            <a:off x="5029200" y="324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358128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cation mostly found in South America but can be found in other parts of the world accept  Europ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219320" y="22096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46280" y="43797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" name="Group 18"/>
          <p:cNvGrpSpPr/>
          <p:nvPr/>
        </p:nvGrpSpPr>
        <p:grpSpPr>
          <a:xfrm>
            <a:off x="6524640" y="1371600"/>
            <a:ext cx="2619360" cy="1743120"/>
            <a:chOff x="6524640" y="1371600"/>
            <a:chExt cx="2619360" cy="1743120"/>
          </a:xfrm>
        </p:grpSpPr>
        <p:pic>
          <p:nvPicPr>
            <p:cNvPr id="60" name="Picture 7" descr="ANd9GcTiFmHtsVSXu30g-Oh68bplP71377snjsWj-7bEHIXo1CWteKaxTQ"/>
            <p:cNvPicPr/>
            <p:nvPr/>
          </p:nvPicPr>
          <p:blipFill>
            <a:blip r:embed="rId2"/>
            <a:stretch/>
          </p:blipFill>
          <p:spPr>
            <a:xfrm>
              <a:off x="6524640" y="137160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/>
            <p:cNvSpPr/>
            <p:nvPr/>
          </p:nvSpPr>
          <p:spPr>
            <a:xfrm>
              <a:off x="6629400" y="27432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Poison Dart Frog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2" name="Group 19"/>
          <p:cNvGrpSpPr/>
          <p:nvPr/>
        </p:nvGrpSpPr>
        <p:grpSpPr>
          <a:xfrm>
            <a:off x="3657600" y="2259000"/>
            <a:ext cx="2743200" cy="2038320"/>
            <a:chOff x="3657600" y="2259000"/>
            <a:chExt cx="2743200" cy="2038320"/>
          </a:xfrm>
        </p:grpSpPr>
        <p:pic>
          <p:nvPicPr>
            <p:cNvPr id="63" name="Picture 15" descr="ANd9GcQIp2NbfWcwKwRzfgAU6NXhsTd8ofkGA5IvJm6nZmOPwRvFD-55vg"/>
            <p:cNvPicPr/>
            <p:nvPr/>
          </p:nvPicPr>
          <p:blipFill>
            <a:blip r:embed="rId3"/>
            <a:stretch/>
          </p:blipFill>
          <p:spPr>
            <a:xfrm>
              <a:off x="3657600" y="2259000"/>
              <a:ext cx="259092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6"/>
            <p:cNvSpPr/>
            <p:nvPr/>
          </p:nvSpPr>
          <p:spPr>
            <a:xfrm>
              <a:off x="3733560" y="38098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Yucca plant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5" name="Group 17"/>
          <p:cNvGrpSpPr/>
          <p:nvPr/>
        </p:nvGrpSpPr>
        <p:grpSpPr>
          <a:xfrm>
            <a:off x="6477120" y="3505320"/>
            <a:ext cx="2666880" cy="1809720"/>
            <a:chOff x="6477120" y="3505320"/>
            <a:chExt cx="2666880" cy="1809720"/>
          </a:xfrm>
        </p:grpSpPr>
        <p:pic>
          <p:nvPicPr>
            <p:cNvPr id="66" name="Picture 18" descr="ANd9GcSSW9nqe8OTlu0P5k61O6v9Yv1lzNRdnfi9dlevNUKf2WO8-DoBfQ"/>
            <p:cNvPicPr/>
            <p:nvPr/>
          </p:nvPicPr>
          <p:blipFill>
            <a:blip r:embed="rId4"/>
            <a:stretch/>
          </p:blipFill>
          <p:spPr>
            <a:xfrm>
              <a:off x="6477120" y="3505320"/>
              <a:ext cx="252432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9"/>
            <p:cNvSpPr/>
            <p:nvPr/>
          </p:nvSpPr>
          <p:spPr>
            <a:xfrm>
              <a:off x="6705720" y="48769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Quetzal Bird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8" name="Group 16"/>
          <p:cNvGrpSpPr/>
          <p:nvPr/>
        </p:nvGrpSpPr>
        <p:grpSpPr>
          <a:xfrm>
            <a:off x="2971800" y="4648320"/>
            <a:ext cx="2305080" cy="1981080"/>
            <a:chOff x="2971800" y="4648320"/>
            <a:chExt cx="2305080" cy="1981080"/>
          </a:xfrm>
        </p:grpSpPr>
        <p:pic>
          <p:nvPicPr>
            <p:cNvPr id="69" name="Picture 21" descr="ANd9GcSuVHRFuI947hEKjozn1LqxPvEaTS0UUiekofXPopo58hQ4Vke28Q"/>
            <p:cNvPicPr/>
            <p:nvPr/>
          </p:nvPicPr>
          <p:blipFill>
            <a:blip r:embed="rId5"/>
            <a:stretch/>
          </p:blipFill>
          <p:spPr>
            <a:xfrm>
              <a:off x="2971800" y="4648320"/>
              <a:ext cx="2305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3"/>
            <p:cNvSpPr/>
            <p:nvPr/>
          </p:nvSpPr>
          <p:spPr>
            <a:xfrm>
              <a:off x="3276360" y="586764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Puma Mammal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ANd9GcTLVOjsJWwXcEWvf7UcuIONxUKSsrxANEwTsZUvBZNgwJY237osw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1828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Can be found in Eastern half of the United States, Canada, Europe parts of Russia, China and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881520" y="2905200"/>
            <a:ext cx="138096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881520" y="2905200"/>
            <a:ext cx="138096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943600" y="1066680"/>
            <a:ext cx="3200400" cy="2324160"/>
            <a:chOff x="5943600" y="1066680"/>
            <a:chExt cx="3200400" cy="2324160"/>
          </a:xfrm>
        </p:grpSpPr>
        <p:pic>
          <p:nvPicPr>
            <p:cNvPr id="77" name="Picture 11" descr="ANd9GcQmpi1hpjN-MgcrGx8E4LYLjkRKDFHGTzqBrBIhPekz1tfV_dA45A"/>
            <p:cNvPicPr/>
            <p:nvPr/>
          </p:nvPicPr>
          <p:blipFill>
            <a:blip r:embed="rId2"/>
            <a:stretch/>
          </p:blipFill>
          <p:spPr>
            <a:xfrm>
              <a:off x="5943600" y="1066680"/>
              <a:ext cx="320040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2"/>
            <p:cNvSpPr/>
            <p:nvPr/>
          </p:nvSpPr>
          <p:spPr>
            <a:xfrm>
              <a:off x="6324480" y="2590920"/>
              <a:ext cx="281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White-tailed Deer Mammal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9" name="Group 17"/>
          <p:cNvGrpSpPr/>
          <p:nvPr/>
        </p:nvGrpSpPr>
        <p:grpSpPr>
          <a:xfrm>
            <a:off x="6700680" y="3657600"/>
            <a:ext cx="2443320" cy="2743200"/>
            <a:chOff x="6700680" y="3657600"/>
            <a:chExt cx="2443320" cy="2743200"/>
          </a:xfrm>
        </p:grpSpPr>
        <p:pic>
          <p:nvPicPr>
            <p:cNvPr id="80" name="Picture 14" descr="ANd9GcTlVfe13Yt8-5jZy210QnJgTX_YmeIcIDTiRWmrzNpsXw15NWe2"/>
            <p:cNvPicPr/>
            <p:nvPr/>
          </p:nvPicPr>
          <p:blipFill>
            <a:blip r:embed="rId3"/>
            <a:stretch/>
          </p:blipFill>
          <p:spPr>
            <a:xfrm>
              <a:off x="6700680" y="3657600"/>
              <a:ext cx="24433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6"/>
            <p:cNvSpPr/>
            <p:nvPr/>
          </p:nvSpPr>
          <p:spPr>
            <a:xfrm>
              <a:off x="6781320" y="53341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American Beech tree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82" name="Group 16"/>
          <p:cNvGrpSpPr/>
          <p:nvPr/>
        </p:nvGrpSpPr>
        <p:grpSpPr>
          <a:xfrm>
            <a:off x="4038480" y="4494240"/>
            <a:ext cx="2667240" cy="2365920"/>
            <a:chOff x="4038480" y="4494240"/>
            <a:chExt cx="2667240" cy="2365920"/>
          </a:xfrm>
        </p:grpSpPr>
        <p:pic>
          <p:nvPicPr>
            <p:cNvPr id="83" name="Picture 18" descr="ANd9GcR-jA3UTMVAmIvEtm07TR7RKkw0MLkyw5QvL5o33ZYl4U3Zg2Pb"/>
            <p:cNvPicPr/>
            <p:nvPr/>
          </p:nvPicPr>
          <p:blipFill>
            <a:blip r:embed="rId4"/>
            <a:stretch/>
          </p:blipFill>
          <p:spPr>
            <a:xfrm>
              <a:off x="4038480" y="4494240"/>
              <a:ext cx="2667240" cy="23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9"/>
            <p:cNvSpPr/>
            <p:nvPr/>
          </p:nvSpPr>
          <p:spPr>
            <a:xfrm>
              <a:off x="4114440" y="6156360"/>
              <a:ext cx="243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American Bald Eagle bird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85" name="Group 15"/>
          <p:cNvGrpSpPr/>
          <p:nvPr/>
        </p:nvGrpSpPr>
        <p:grpSpPr>
          <a:xfrm>
            <a:off x="1447920" y="5086440"/>
            <a:ext cx="2590560" cy="1773720"/>
            <a:chOff x="1447920" y="5086440"/>
            <a:chExt cx="2590560" cy="1773720"/>
          </a:xfrm>
        </p:grpSpPr>
        <p:pic>
          <p:nvPicPr>
            <p:cNvPr id="86" name="Picture 21" descr="ANd9GcQsw7SuLcgYICfWjXPgXFgI3kETH6Cb0Yyr5dt8errbij9BbvXa"/>
            <p:cNvPicPr/>
            <p:nvPr/>
          </p:nvPicPr>
          <p:blipFill>
            <a:blip r:embed="rId5"/>
            <a:stretch/>
          </p:blipFill>
          <p:spPr>
            <a:xfrm>
              <a:off x="1447920" y="5086440"/>
              <a:ext cx="258120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22"/>
            <p:cNvSpPr/>
            <p:nvPr/>
          </p:nvSpPr>
          <p:spPr>
            <a:xfrm>
              <a:off x="1523880" y="646128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Coyote Mammal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8" name="Text Box 23"/>
          <p:cNvSpPr/>
          <p:nvPr/>
        </p:nvSpPr>
        <p:spPr>
          <a:xfrm>
            <a:off x="1828800" y="1447920"/>
            <a:ext cx="3429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much rain through out the yea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ay grow in cooler climates and place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ing leaves helps the tree and food during winte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ANd9GcSkNvxWiKR8zVUKBosvIjVCkwkRWL_Rf1vTaPfCM-Nrs5ySUxWL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380520"/>
            <a:ext cx="22096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rass lands are located in Midwest Ame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867280" y="0"/>
            <a:ext cx="3276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sslands have very few of rainfalls per yea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ssland grow very few of trees because rain barley rains ther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sslands are covered with a lot of grasses in this biom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228600" y="2514600"/>
            <a:ext cx="2743200" cy="2334240"/>
            <a:chOff x="228600" y="2514600"/>
            <a:chExt cx="2743200" cy="2334240"/>
          </a:xfrm>
        </p:grpSpPr>
        <p:pic>
          <p:nvPicPr>
            <p:cNvPr id="94" name="Picture 8" descr="ANd9GcS0dUFWfF6DodX_wh_cUpOAraSqm6sC1VLZoPWAgLTWX33y_IS4Ow"/>
            <p:cNvPicPr/>
            <p:nvPr/>
          </p:nvPicPr>
          <p:blipFill>
            <a:blip r:embed="rId2"/>
            <a:stretch/>
          </p:blipFill>
          <p:spPr>
            <a:xfrm>
              <a:off x="228600" y="2514600"/>
              <a:ext cx="22384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228600" y="36576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Eastern cotton-tailed rabbit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96" name="Group 15"/>
          <p:cNvGrpSpPr/>
          <p:nvPr/>
        </p:nvGrpSpPr>
        <p:grpSpPr>
          <a:xfrm>
            <a:off x="2590920" y="1219320"/>
            <a:ext cx="2743200" cy="2044800"/>
            <a:chOff x="2590920" y="1219320"/>
            <a:chExt cx="2743200" cy="2044800"/>
          </a:xfrm>
        </p:grpSpPr>
        <p:pic>
          <p:nvPicPr>
            <p:cNvPr id="97" name="Picture 11" descr="ANd9GcQn1RC75nDFGhWPWi45hFoJSU67i3MPaNomuH0rsfFBw0cD4xVWFQ"/>
            <p:cNvPicPr/>
            <p:nvPr/>
          </p:nvPicPr>
          <p:blipFill>
            <a:blip r:embed="rId3"/>
            <a:stretch/>
          </p:blipFill>
          <p:spPr>
            <a:xfrm>
              <a:off x="2590920" y="12193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2"/>
            <p:cNvSpPr/>
            <p:nvPr/>
          </p:nvSpPr>
          <p:spPr>
            <a:xfrm>
              <a:off x="2666880" y="243864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Red-tailed hawk bir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9" name="AutoShape 14"/>
          <p:cNvSpPr/>
          <p:nvPr/>
        </p:nvSpPr>
        <p:spPr>
          <a:xfrm>
            <a:off x="3900600" y="2805120"/>
            <a:ext cx="13428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579132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1" name="Group 18"/>
          <p:cNvGrpSpPr/>
          <p:nvPr/>
        </p:nvGrpSpPr>
        <p:grpSpPr>
          <a:xfrm>
            <a:off x="6248520" y="3886200"/>
            <a:ext cx="2514600" cy="2121120"/>
            <a:chOff x="6248520" y="3886200"/>
            <a:chExt cx="2514600" cy="2121120"/>
          </a:xfrm>
        </p:grpSpPr>
        <p:pic>
          <p:nvPicPr>
            <p:cNvPr id="102" name="Picture 16" descr="ANd9GcQ3K5mQPLpA-7OkgKqNxVvuFKNTk4F_WFEQCtwbVBuzaeYNnbWXTQ"/>
            <p:cNvPicPr/>
            <p:nvPr/>
          </p:nvPicPr>
          <p:blipFill>
            <a:blip r:embed="rId4"/>
            <a:stretch/>
          </p:blipFill>
          <p:spPr>
            <a:xfrm>
              <a:off x="6248520" y="3886200"/>
              <a:ext cx="2381400" cy="19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8"/>
            <p:cNvSpPr/>
            <p:nvPr/>
          </p:nvSpPr>
          <p:spPr>
            <a:xfrm>
              <a:off x="6248520" y="518184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Turk cap lily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3048120" y="3581280"/>
            <a:ext cx="2666880" cy="2121120"/>
            <a:chOff x="3048120" y="3581280"/>
            <a:chExt cx="2666880" cy="2121120"/>
          </a:xfrm>
        </p:grpSpPr>
        <p:pic>
          <p:nvPicPr>
            <p:cNvPr id="105" name="Picture 20" descr="ANd9GcSUoWVYQlQZ9EW_1QvoO98SCyoqrs-c8_ZmXdB7IYMLxmx2ZWTRgg"/>
            <p:cNvPicPr/>
            <p:nvPr/>
          </p:nvPicPr>
          <p:blipFill>
            <a:blip r:embed="rId5"/>
            <a:stretch/>
          </p:blipFill>
          <p:spPr>
            <a:xfrm>
              <a:off x="3124080" y="3581280"/>
              <a:ext cx="2467080" cy="18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>
              <a:off x="3048120" y="487692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Wild Bergamot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ANd9GcQR2iVkzVupZ4f3Sj6JNX5M5XjEL07ghIkQhxew9eHDf_9XSjj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24382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ga biomes are located in Canada and Russia in places that are cold and fairly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34320" y="0"/>
            <a:ext cx="23619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iga’s have tree’s such as Needle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edles have many qualities that help trees survive the cold in the taiga biom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edles are leaves that make food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304920" y="3733920"/>
            <a:ext cx="2666880" cy="2197080"/>
            <a:chOff x="304920" y="3733920"/>
            <a:chExt cx="2666880" cy="2197080"/>
          </a:xfrm>
        </p:grpSpPr>
        <p:pic>
          <p:nvPicPr>
            <p:cNvPr id="112" name="Picture 12" descr="blackbear"/>
            <p:cNvPicPr/>
            <p:nvPr/>
          </p:nvPicPr>
          <p:blipFill>
            <a:blip r:embed="rId2"/>
            <a:stretch/>
          </p:blipFill>
          <p:spPr>
            <a:xfrm>
              <a:off x="304920" y="3733920"/>
              <a:ext cx="2362320" cy="20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3"/>
            <p:cNvSpPr/>
            <p:nvPr/>
          </p:nvSpPr>
          <p:spPr>
            <a:xfrm>
              <a:off x="304920" y="510552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American black bear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514600" y="1371600"/>
            <a:ext cx="2666880" cy="1891800"/>
            <a:chOff x="2514600" y="1371600"/>
            <a:chExt cx="2666880" cy="1891800"/>
          </a:xfrm>
        </p:grpSpPr>
        <p:pic>
          <p:nvPicPr>
            <p:cNvPr id="115" name="Picture 15" descr="ANd9GcRhN2vPhwH_-Zo9Tva0CxpIK5XyGfSpd0ixe1f7P_WOpt228QYvKA"/>
            <p:cNvPicPr/>
            <p:nvPr/>
          </p:nvPicPr>
          <p:blipFill>
            <a:blip r:embed="rId3"/>
            <a:stretch/>
          </p:blipFill>
          <p:spPr>
            <a:xfrm>
              <a:off x="2514600" y="1371600"/>
              <a:ext cx="2524320" cy="18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6"/>
            <p:cNvSpPr/>
            <p:nvPr/>
          </p:nvSpPr>
          <p:spPr>
            <a:xfrm>
              <a:off x="2666880" y="243792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Wolverine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17" name="Group 15"/>
          <p:cNvGrpSpPr/>
          <p:nvPr/>
        </p:nvGrpSpPr>
        <p:grpSpPr>
          <a:xfrm>
            <a:off x="4952880" y="1295280"/>
            <a:ext cx="2133720" cy="2867760"/>
            <a:chOff x="4952880" y="1295280"/>
            <a:chExt cx="2133720" cy="2867760"/>
          </a:xfrm>
        </p:grpSpPr>
        <p:pic>
          <p:nvPicPr>
            <p:cNvPr id="118" name="Picture 18" descr="Douglas%20Fir%20Tree"/>
            <p:cNvPicPr/>
            <p:nvPr/>
          </p:nvPicPr>
          <p:blipFill>
            <a:blip r:embed="rId4"/>
            <a:stretch/>
          </p:blipFill>
          <p:spPr>
            <a:xfrm>
              <a:off x="5028840" y="1295280"/>
              <a:ext cx="1748160" cy="23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9"/>
            <p:cNvSpPr/>
            <p:nvPr/>
          </p:nvSpPr>
          <p:spPr>
            <a:xfrm>
              <a:off x="4952880" y="297180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Eastern Douglas Fir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0" name="WordArt 23"/>
          <p:cNvSpPr txBox="1"/>
          <p:nvPr/>
        </p:nvSpPr>
        <p:spPr>
          <a:xfrm>
            <a:off x="3276720" y="4648320"/>
            <a:ext cx="35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 u="sng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uFillTx/>
                <a:latin typeface="Arial Black"/>
              </a:rPr>
              <a:t> </a:t>
            </a:r>
            <a:endParaRPr b="0" lang="en-US" sz="2400" spc="1" strike="noStrike" u="sng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uFillTx/>
              <a:latin typeface="Arial Black"/>
              <a:ea typeface="Arial Black"/>
            </a:endParaRPr>
          </a:p>
        </p:txBody>
      </p:sp>
      <p:pic>
        <p:nvPicPr>
          <p:cNvPr id="121" name="WordArt 24" descr="Narrow vertical"/>
          <p:cNvPicPr/>
          <p:nvPr/>
        </p:nvPicPr>
        <p:blipFill>
          <a:blip r:embed="rId7"/>
          <a:stretch/>
        </p:blipFill>
        <p:spPr>
          <a:xfrm>
            <a:off x="3876840" y="225360"/>
            <a:ext cx="1438200" cy="1116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9"/>
          <p:cNvGrpSpPr/>
          <p:nvPr/>
        </p:nvGrpSpPr>
        <p:grpSpPr>
          <a:xfrm>
            <a:off x="4419720" y="5105520"/>
            <a:ext cx="2095560" cy="1587240"/>
            <a:chOff x="4419720" y="5105520"/>
            <a:chExt cx="2095560" cy="1587240"/>
          </a:xfrm>
        </p:grpSpPr>
        <p:pic>
          <p:nvPicPr>
            <p:cNvPr id="123" name="Picture 21" descr="ANd9GcQkAhxuyWm0ZRk_IJaM6Z1lGn7oKWsSak-U3rrKkfyQqQgFu4tF"/>
            <p:cNvPicPr/>
            <p:nvPr/>
          </p:nvPicPr>
          <p:blipFill>
            <a:blip r:embed="rId8"/>
            <a:stretch/>
          </p:blipFill>
          <p:spPr>
            <a:xfrm>
              <a:off x="4419720" y="5105520"/>
              <a:ext cx="2095560" cy="15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18"/>
            <p:cNvSpPr/>
            <p:nvPr/>
          </p:nvSpPr>
          <p:spPr>
            <a:xfrm>
              <a:off x="4876920" y="5867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Long eared ow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ANd9GcTzc7r67yR6Ot5nW7jUpvog6Qfp1nU4Wc2Ls0HOEskuJWH9rycV"/>
          <p:cNvPicPr/>
          <p:nvPr/>
        </p:nvPicPr>
        <p:blipFill>
          <a:blip r:embed="rId1"/>
          <a:stretch/>
        </p:blipFill>
        <p:spPr>
          <a:xfrm>
            <a:off x="-468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35000"/>
            <a:ext cx="182880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erts cover about one-fifth of our planet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2895480" y="-304920"/>
            <a:ext cx="3191040" cy="18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 u="sng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uFillTx/>
                <a:latin typeface="Times New Roman"/>
              </a:rPr>
              <a:t> </a:t>
            </a:r>
            <a:endParaRPr b="0" lang="en-US" sz="9600" spc="1" strike="noStrike" u="sng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uFillTx/>
              <a:latin typeface="Times New Roman"/>
              <a:ea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477120" y="0"/>
            <a:ext cx="2286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ny deserts are hot but some are cold most of the tim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 all deserts have dunes or sand dune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erts don’t get much rain or snow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30" name="Group 16"/>
          <p:cNvGrpSpPr/>
          <p:nvPr/>
        </p:nvGrpSpPr>
        <p:grpSpPr>
          <a:xfrm>
            <a:off x="3733920" y="1752480"/>
            <a:ext cx="2971800" cy="2095560"/>
            <a:chOff x="3733920" y="1752480"/>
            <a:chExt cx="2971800" cy="2095560"/>
          </a:xfrm>
        </p:grpSpPr>
        <p:pic>
          <p:nvPicPr>
            <p:cNvPr id="131" name="Picture 11" descr="ANd9GcSZcbH4TicIVp_cdnnrOQDDV9QEk9bRZNVpCfGHgQQYVXWazPZ25A"/>
            <p:cNvPicPr/>
            <p:nvPr/>
          </p:nvPicPr>
          <p:blipFill>
            <a:blip r:embed="rId2"/>
            <a:stretch/>
          </p:blipFill>
          <p:spPr>
            <a:xfrm>
              <a:off x="3886200" y="1752480"/>
              <a:ext cx="218124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/>
            <p:cNvSpPr/>
            <p:nvPr/>
          </p:nvSpPr>
          <p:spPr>
            <a:xfrm>
              <a:off x="3733920" y="33526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Roadrunner </a:t>
              </a: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Bir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3" name="Group 18"/>
          <p:cNvGrpSpPr/>
          <p:nvPr/>
        </p:nvGrpSpPr>
        <p:grpSpPr>
          <a:xfrm>
            <a:off x="0" y="2819520"/>
            <a:ext cx="2438280" cy="2197080"/>
            <a:chOff x="0" y="2819520"/>
            <a:chExt cx="2438280" cy="2197080"/>
          </a:xfrm>
        </p:grpSpPr>
        <p:pic>
          <p:nvPicPr>
            <p:cNvPr id="134" name="Picture 16" descr="ANd9GcS1GRJv5wS7KlxSmcHYFzgFpeDQSSrnVwf-DskBwGsUiIyddim9vg"/>
            <p:cNvPicPr/>
            <p:nvPr/>
          </p:nvPicPr>
          <p:blipFill>
            <a:blip r:embed="rId3"/>
            <a:stretch/>
          </p:blipFill>
          <p:spPr>
            <a:xfrm>
              <a:off x="0" y="2819520"/>
              <a:ext cx="241956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8"/>
            <p:cNvSpPr/>
            <p:nvPr/>
          </p:nvSpPr>
          <p:spPr>
            <a:xfrm>
              <a:off x="152280" y="4191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Black widow Arthropo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2514600" y="4267080"/>
            <a:ext cx="2895480" cy="2181960"/>
            <a:chOff x="2514600" y="4267080"/>
            <a:chExt cx="2895480" cy="2181960"/>
          </a:xfrm>
        </p:grpSpPr>
        <p:pic>
          <p:nvPicPr>
            <p:cNvPr id="137" name="Picture 20" descr="ANd9GcQfmdDm0u3DyWEgfG3xDgZEDwlBXIcyYWJ-03kDHZ6a_mjEwEUp"/>
            <p:cNvPicPr/>
            <p:nvPr/>
          </p:nvPicPr>
          <p:blipFill>
            <a:blip r:embed="rId4"/>
            <a:stretch/>
          </p:blipFill>
          <p:spPr>
            <a:xfrm>
              <a:off x="2514600" y="426708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1"/>
            <p:cNvSpPr/>
            <p:nvPr/>
          </p:nvSpPr>
          <p:spPr>
            <a:xfrm>
              <a:off x="2895480" y="525780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Sidewinder Rattlesnake Reptile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39" name="Text Box 24"/>
          <p:cNvSpPr/>
          <p:nvPr/>
        </p:nvSpPr>
        <p:spPr>
          <a:xfrm>
            <a:off x="4800600" y="6095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0" name="Group 15"/>
          <p:cNvGrpSpPr/>
          <p:nvPr/>
        </p:nvGrpSpPr>
        <p:grpSpPr>
          <a:xfrm>
            <a:off x="5791320" y="4495680"/>
            <a:ext cx="2466720" cy="1847880"/>
            <a:chOff x="5791320" y="4495680"/>
            <a:chExt cx="2466720" cy="1847880"/>
          </a:xfrm>
        </p:grpSpPr>
        <p:pic>
          <p:nvPicPr>
            <p:cNvPr id="141" name="Picture 23" descr="ANd9GcT4r48ieKFpXLY1cuErdphxT62uC4gQrMnUdovOesDNgBgRhSvT3Q"/>
            <p:cNvPicPr/>
            <p:nvPr/>
          </p:nvPicPr>
          <p:blipFill>
            <a:blip r:embed="rId5"/>
            <a:stretch/>
          </p:blipFill>
          <p:spPr>
            <a:xfrm>
              <a:off x="5791320" y="449568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25"/>
            <p:cNvSpPr/>
            <p:nvPr/>
          </p:nvSpPr>
          <p:spPr>
            <a:xfrm>
              <a:off x="5943600" y="5791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Ocotillo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4680" y="-1440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5640" y="172800"/>
            <a:ext cx="28191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undra's are located in the extreme North of Canada and Asia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63360" y="-741240"/>
            <a:ext cx="2190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16000" y="-588960"/>
            <a:ext cx="2190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095880" y="20520"/>
            <a:ext cx="30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tundra is a very cold biom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 the tundra, a major limit factor is a short time of warm weathe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0f0"/>
                </a:solidFill>
                <a:uFillTx/>
                <a:latin typeface="Arial"/>
              </a:rPr>
              <a:t>The small plants in the tundra provide less food for animals that need shelte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" name="Group 16"/>
          <p:cNvGrpSpPr/>
          <p:nvPr/>
        </p:nvGrpSpPr>
        <p:grpSpPr>
          <a:xfrm>
            <a:off x="2971800" y="1143000"/>
            <a:ext cx="2943360" cy="1831320"/>
            <a:chOff x="2971800" y="1143000"/>
            <a:chExt cx="2943360" cy="1831320"/>
          </a:xfrm>
        </p:grpSpPr>
        <p:pic>
          <p:nvPicPr>
            <p:cNvPr id="150" name="Picture 9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268632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6"/>
            <p:cNvSpPr/>
            <p:nvPr/>
          </p:nvSpPr>
          <p:spPr>
            <a:xfrm>
              <a:off x="2971800" y="2514600"/>
              <a:ext cx="29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Polar bear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2" name="Group 15"/>
          <p:cNvGrpSpPr/>
          <p:nvPr/>
        </p:nvGrpSpPr>
        <p:grpSpPr>
          <a:xfrm>
            <a:off x="5867280" y="3962520"/>
            <a:ext cx="2895840" cy="1848600"/>
            <a:chOff x="5867280" y="3962520"/>
            <a:chExt cx="2895840" cy="1848600"/>
          </a:xfrm>
        </p:grpSpPr>
        <p:pic>
          <p:nvPicPr>
            <p:cNvPr id="153" name="Picture 11" descr=""/>
            <p:cNvPicPr/>
            <p:nvPr/>
          </p:nvPicPr>
          <p:blipFill>
            <a:blip r:embed="rId3"/>
            <a:stretch/>
          </p:blipFill>
          <p:spPr>
            <a:xfrm>
              <a:off x="5906880" y="3962520"/>
              <a:ext cx="26388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9"/>
            <p:cNvSpPr/>
            <p:nvPr/>
          </p:nvSpPr>
          <p:spPr>
            <a:xfrm>
              <a:off x="5867280" y="535140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Pasque Flower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" name="Group 19"/>
          <p:cNvGrpSpPr/>
          <p:nvPr/>
        </p:nvGrpSpPr>
        <p:grpSpPr>
          <a:xfrm>
            <a:off x="3505320" y="3581280"/>
            <a:ext cx="2028600" cy="1587600"/>
            <a:chOff x="3505320" y="3581280"/>
            <a:chExt cx="2028600" cy="1587600"/>
          </a:xfrm>
        </p:grpSpPr>
        <p:pic>
          <p:nvPicPr>
            <p:cNvPr id="156" name="Picture 12" descr=""/>
            <p:cNvPicPr/>
            <p:nvPr/>
          </p:nvPicPr>
          <p:blipFill>
            <a:blip r:embed="rId4"/>
            <a:stretch/>
          </p:blipFill>
          <p:spPr>
            <a:xfrm>
              <a:off x="3505320" y="3581280"/>
              <a:ext cx="196380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0"/>
            <p:cNvSpPr/>
            <p:nvPr/>
          </p:nvSpPr>
          <p:spPr>
            <a:xfrm>
              <a:off x="3505320" y="4343400"/>
              <a:ext cx="202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Arctic Moss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0" y="3124080"/>
            <a:ext cx="3733920" cy="1755720"/>
            <a:chOff x="0" y="3124080"/>
            <a:chExt cx="3733920" cy="1755720"/>
          </a:xfrm>
        </p:grpSpPr>
        <p:pic>
          <p:nvPicPr>
            <p:cNvPr id="159" name="Picture 10" descr=""/>
            <p:cNvPicPr/>
            <p:nvPr/>
          </p:nvPicPr>
          <p:blipFill>
            <a:blip r:embed="rId5"/>
            <a:stretch/>
          </p:blipFill>
          <p:spPr>
            <a:xfrm>
              <a:off x="215640" y="3124080"/>
              <a:ext cx="2638440" cy="17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17"/>
            <p:cNvSpPr/>
            <p:nvPr/>
          </p:nvSpPr>
          <p:spPr>
            <a:xfrm>
              <a:off x="0" y="44200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Caribou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s://encrypted-tbn0.gstatic.com/images?q=tbn:ANd9GcQTFrqHdwUe3TDuD3Q_jK9oKD1L-1B0dbZp8DO0Z4h1tG53hj5B9Q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380880"/>
            <a:ext cx="3657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ivers are located all over the continent except Antarct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5638680" y="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Animals that live in rivers usually don’t live in the ocea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Not only fish live in the rive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iver otters and ducks live in the river to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5" name="Group 16"/>
          <p:cNvGrpSpPr/>
          <p:nvPr/>
        </p:nvGrpSpPr>
        <p:grpSpPr>
          <a:xfrm>
            <a:off x="228600" y="2819520"/>
            <a:ext cx="3886200" cy="2517120"/>
            <a:chOff x="228600" y="2819520"/>
            <a:chExt cx="3886200" cy="2517120"/>
          </a:xfrm>
        </p:grpSpPr>
        <p:pic>
          <p:nvPicPr>
            <p:cNvPr id="166" name="Picture 4" descr="http://images.nationalgeographic.com/wpf/media-live/photos/000/006/cache/na-river-otter_641_600x450.jpg"/>
            <p:cNvPicPr/>
            <p:nvPr/>
          </p:nvPicPr>
          <p:blipFill>
            <a:blip r:embed="rId2"/>
            <a:stretch/>
          </p:blipFill>
          <p:spPr>
            <a:xfrm>
              <a:off x="228600" y="281952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7"/>
            <p:cNvSpPr/>
            <p:nvPr/>
          </p:nvSpPr>
          <p:spPr>
            <a:xfrm>
              <a:off x="228600" y="48769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c000"/>
                  </a:solidFill>
                  <a:uFillTx/>
                  <a:latin typeface="Arial"/>
                </a:rPr>
                <a:t>River otter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8" name="Group 14"/>
          <p:cNvGrpSpPr/>
          <p:nvPr/>
        </p:nvGrpSpPr>
        <p:grpSpPr>
          <a:xfrm>
            <a:off x="6172200" y="3429000"/>
            <a:ext cx="2971800" cy="2059920"/>
            <a:chOff x="6172200" y="3429000"/>
            <a:chExt cx="2971800" cy="2059920"/>
          </a:xfrm>
        </p:grpSpPr>
        <p:pic>
          <p:nvPicPr>
            <p:cNvPr id="169" name="Picture 6" descr="https://encrypted-tbn1.gstatic.com/images?q=tbn:ANd9GcTo-jwnFGvZ8GFeuum5bD61oxzUIFeuLcqXzsLwKNOPFS2_7ga8"/>
            <p:cNvPicPr/>
            <p:nvPr/>
          </p:nvPicPr>
          <p:blipFill>
            <a:blip r:embed="rId3"/>
            <a:stretch/>
          </p:blipFill>
          <p:spPr>
            <a:xfrm>
              <a:off x="6524640" y="342900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9"/>
            <p:cNvSpPr/>
            <p:nvPr/>
          </p:nvSpPr>
          <p:spPr>
            <a:xfrm>
              <a:off x="6172200" y="50292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cc"/>
                  </a:solidFill>
                  <a:uFillTx/>
                  <a:latin typeface="Arial"/>
                </a:rPr>
                <a:t>Wood duck Bir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" name="Group 13"/>
          <p:cNvGrpSpPr/>
          <p:nvPr/>
        </p:nvGrpSpPr>
        <p:grpSpPr>
          <a:xfrm>
            <a:off x="2895480" y="3200400"/>
            <a:ext cx="4114800" cy="2057400"/>
            <a:chOff x="2895480" y="3200400"/>
            <a:chExt cx="4114800" cy="2057400"/>
          </a:xfrm>
        </p:grpSpPr>
        <p:pic>
          <p:nvPicPr>
            <p:cNvPr id="172" name="Picture 8" descr="http://www.dfw.state.or.us/resources/fishing/warm_water_fishing/images/Walleye.gif"/>
            <p:cNvPicPr/>
            <p:nvPr/>
          </p:nvPicPr>
          <p:blipFill>
            <a:blip r:embed="rId4"/>
            <a:stretch/>
          </p:blipFill>
          <p:spPr>
            <a:xfrm>
              <a:off x="2895480" y="3200400"/>
              <a:ext cx="41148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11"/>
            <p:cNvSpPr/>
            <p:nvPr/>
          </p:nvSpPr>
          <p:spPr>
            <a:xfrm>
              <a:off x="3581280" y="42670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Walleye Fish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3200400" y="4800600"/>
            <a:ext cx="3048120" cy="1847880"/>
            <a:chOff x="3200400" y="4800600"/>
            <a:chExt cx="3048120" cy="1847880"/>
          </a:xfrm>
        </p:grpSpPr>
        <p:pic>
          <p:nvPicPr>
            <p:cNvPr id="175" name="Picture 10" descr="https://encrypted-tbn0.gstatic.com/images?q=tbn:ANd9GcR0ARrSvinzwTsRe8EoECzQBSKf5afy7tmK_TQF0i3PWMxGsY-j"/>
            <p:cNvPicPr/>
            <p:nvPr/>
          </p:nvPicPr>
          <p:blipFill>
            <a:blip r:embed="rId5"/>
            <a:stretch/>
          </p:blipFill>
          <p:spPr>
            <a:xfrm>
              <a:off x="3657600" y="48006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13"/>
            <p:cNvSpPr/>
            <p:nvPr/>
          </p:nvSpPr>
          <p:spPr>
            <a:xfrm>
              <a:off x="320040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b0f0"/>
                  </a:solidFill>
                  <a:uFillTx/>
                  <a:latin typeface="Arial"/>
                </a:rPr>
                <a:t>River moss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s://encrypted-tbn0.gstatic.com/images?q=tbn:ANd9GcSWA1GuYIZNvGoUuiFjqIOKoKJilyAmwhYJX5nGFc69HgD47W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1920" y="228600"/>
            <a:ext cx="358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eans are located in all over the plan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867280" y="0"/>
            <a:ext cx="2819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deepest point in the ocean is 36,198f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 worlds oceans contain about20 million of gold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The gray whale migrates 10,000 miles a yea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1" name="Group 17"/>
          <p:cNvGrpSpPr/>
          <p:nvPr/>
        </p:nvGrpSpPr>
        <p:grpSpPr>
          <a:xfrm>
            <a:off x="304920" y="3733920"/>
            <a:ext cx="3429000" cy="1800000"/>
            <a:chOff x="304920" y="3733920"/>
            <a:chExt cx="3429000" cy="1800000"/>
          </a:xfrm>
        </p:grpSpPr>
        <p:pic>
          <p:nvPicPr>
            <p:cNvPr id="182" name="Picture 4" descr="https://encrypted-tbn2.gstatic.com/images?q=tbn:ANd9GcRmV6NKAvUrNWA10jhXytSgPrt4jNV4qN34-8y9YYFLFZpVB8tM"/>
            <p:cNvPicPr/>
            <p:nvPr/>
          </p:nvPicPr>
          <p:blipFill>
            <a:blip r:embed="rId2"/>
            <a:stretch/>
          </p:blipFill>
          <p:spPr>
            <a:xfrm>
              <a:off x="304920" y="3733920"/>
              <a:ext cx="25434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Box 6"/>
            <p:cNvSpPr/>
            <p:nvPr/>
          </p:nvSpPr>
          <p:spPr>
            <a:xfrm>
              <a:off x="380880" y="502920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00000"/>
                  </a:solidFill>
                  <a:uFillTx/>
                  <a:latin typeface="Arial"/>
                </a:rPr>
                <a:t>Starfish Fish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2209680" y="1523880"/>
            <a:ext cx="3714840" cy="2057400"/>
            <a:chOff x="2209680" y="1523880"/>
            <a:chExt cx="3714840" cy="2057400"/>
          </a:xfrm>
        </p:grpSpPr>
        <p:pic>
          <p:nvPicPr>
            <p:cNvPr id="185" name="Picture 6" descr="http://www.browntaxidermy.com/71-inch-sailfish-full-mount.jpg"/>
            <p:cNvPicPr/>
            <p:nvPr/>
          </p:nvPicPr>
          <p:blipFill>
            <a:blip r:embed="rId3"/>
            <a:stretch/>
          </p:blipFill>
          <p:spPr>
            <a:xfrm>
              <a:off x="2209680" y="1523880"/>
              <a:ext cx="371484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Box 8"/>
            <p:cNvSpPr/>
            <p:nvPr/>
          </p:nvSpPr>
          <p:spPr>
            <a:xfrm>
              <a:off x="2438280" y="274320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Sailfish Fish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7" name="AutoShape 8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0" name="Group 19"/>
          <p:cNvGrpSpPr/>
          <p:nvPr/>
        </p:nvGrpSpPr>
        <p:grpSpPr>
          <a:xfrm>
            <a:off x="6400800" y="3886200"/>
            <a:ext cx="2438280" cy="1990800"/>
            <a:chOff x="6400800" y="3886200"/>
            <a:chExt cx="2438280" cy="1990800"/>
          </a:xfrm>
        </p:grpSpPr>
        <p:pic>
          <p:nvPicPr>
            <p:cNvPr id="191" name="Picture 14" descr="https://encrypted-tbn2.gstatic.com/images?q=tbn:ANd9GcScd7VcnEhGgjxRhqos0bYbm91JJzF4qMiKLeiT9kzGz4avqhB9"/>
            <p:cNvPicPr/>
            <p:nvPr/>
          </p:nvPicPr>
          <p:blipFill>
            <a:blip r:embed="rId4"/>
            <a:stretch/>
          </p:blipFill>
          <p:spPr>
            <a:xfrm>
              <a:off x="6476760" y="3886200"/>
              <a:ext cx="229572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13"/>
            <p:cNvSpPr/>
            <p:nvPr/>
          </p:nvSpPr>
          <p:spPr>
            <a:xfrm>
              <a:off x="6400800" y="51818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Anemone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3" name="Group 18"/>
          <p:cNvGrpSpPr/>
          <p:nvPr/>
        </p:nvGrpSpPr>
        <p:grpSpPr>
          <a:xfrm>
            <a:off x="3200400" y="3581280"/>
            <a:ext cx="2666880" cy="2143080"/>
            <a:chOff x="3200400" y="3581280"/>
            <a:chExt cx="2666880" cy="2143080"/>
          </a:xfrm>
        </p:grpSpPr>
        <p:pic>
          <p:nvPicPr>
            <p:cNvPr id="194" name="Picture 16" descr="https://encrypted-tbn3.gstatic.com/images?q=tbn:ANd9GcRReMABzL9f18bag-NnTlpOJ-Pc9eHD5b4SvVDIdtsD14Q86pyL"/>
            <p:cNvPicPr/>
            <p:nvPr/>
          </p:nvPicPr>
          <p:blipFill>
            <a:blip r:embed="rId5"/>
            <a:stretch/>
          </p:blipFill>
          <p:spPr>
            <a:xfrm>
              <a:off x="3200400" y="3581280"/>
              <a:ext cx="228600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15"/>
            <p:cNvSpPr/>
            <p:nvPr/>
          </p:nvSpPr>
          <p:spPr>
            <a:xfrm>
              <a:off x="32004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Lionfish Fish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29:25Z</dcterms:created>
  <dc:creator>WG3049</dc:creator>
  <dc:description/>
  <dc:language>en-US</dc:language>
  <cp:lastModifiedBy>Gini</cp:lastModifiedBy>
  <dcterms:modified xsi:type="dcterms:W3CDTF">2012-11-12T23:03:48Z</dcterms:modified>
  <cp:revision>21</cp:revision>
  <dc:subject/>
  <dc:title>WATER &amp; LAND BIOMES</dc:title>
</cp:coreProperties>
</file>